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822535"/>
        <c:axId val="76935004"/>
      </c:barChart>
      <c:catAx>
        <c:axId val="1482253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935004"/>
        <c:crosses val="autoZero"/>
        <c:auto val="1"/>
        <c:lblAlgn val="ctr"/>
        <c:lblOffset val="100"/>
        <c:noMultiLvlLbl val="0"/>
      </c:catAx>
      <c:valAx>
        <c:axId val="769350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82253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65C2-0557-4351-92F0-EE2419C57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425F-0160-4D74-9701-19B9DBBB2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D325-B68A-41BC-AA37-CF414A309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3A888-FADD-454F-AC87-A5E0B2605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433B-3E89-4C46-A983-87783855A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12ED-97F8-473A-A6A9-5079DBE34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7018-A3B8-47E6-81E5-78B9EF8CF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A2A9-D5D6-462E-B9FD-10FBFE27D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C4E0-3966-4659-B199-FDBCE9560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F692-B080-44E8-AECA-50AB3C3D6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1B5C-8B0B-4D15-8006-4E3541DA3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8275-1D89-49A9-BD06-74FFCB8E7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C57DEA-E923-418C-A421-65B15261FF6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